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5E3D-43BD-4386-8113-7CCEAC4691B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0501-354B-4CF9-969E-7C8D23881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4F5-67DA-4912-9C4D-95DC07BA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1E7-FEB9-44CE-A0F2-77FA09C0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6C2-4D93-48A3-83C3-C150E7C3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8C4-8EBB-431E-A74F-A5D80EB4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8A4F-9928-4071-8268-FA4BD094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8BA7-4953-4755-B712-FB9E5D0C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5048-F4B9-4A8F-95C7-D9AC732A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5BFF-6178-42B6-9EC6-9E3C18EF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0C4B-7528-49C8-A9B0-2EFFCE01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6CB2-D992-4AE1-A80C-B929776D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53BC-0401-48C6-B77C-1CBBE252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5E9-3974-4891-9172-DFF77D61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2995-3C6B-4F1B-9EDE-BB186C6C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0657-7365-43C5-AC56-B2C70CC2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9435-8F5C-4F7E-9A9B-0119A358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50A0-43EE-4EC7-BDE6-B1815ED8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04FD-8E73-4F4B-B852-46CB0BAE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AFF-1D4F-4572-AC94-59E4EBA6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AD8-4089-4D91-8475-E37B4C62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AE8-DEA5-49D0-9722-0D2EA6C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E39-95CE-450B-9420-13DE3BD0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A85-EAAD-4D91-A64D-CE10C1F9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AE5-D2C1-4BAD-81F9-81702146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566-EB19-425C-92A0-9DA7F099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5564-E9C3-4872-948A-7686403563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3137-7EAC-4649-97D4-16188E7CF4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apacity4dev.eu/contact" TargetMode="External"/><Relationship Id="rId2" Type="http://schemas.openxmlformats.org/officeDocument/2006/relationships/hyperlink" Target="mailto:capacity4dev@ec.europa.eu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57120" y="371484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www.capacity4dev.eu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476000" y="1916280"/>
            <a:ext cx="61722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2</a:t>
            </a:r>
            <a:r>
              <a:rPr b="1" lang="en-GB" sz="2800" spc="-1" strike="noStrike" baseline="30000">
                <a:solidFill>
                  <a:srgbClr val="ffd624"/>
                </a:solidFill>
                <a:latin typeface="Verdana"/>
              </a:rPr>
              <a:t>nd</a:t>
            </a: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 Regional Technical Meeting of the GCCA Intra-ACP Programme</a:t>
            </a:r>
            <a:br>
              <a:rPr sz="2800"/>
            </a:br>
            <a:br>
              <a:rPr sz="3200"/>
            </a:br>
            <a:r>
              <a:rPr b="0" lang="en-GB" sz="2000" spc="-1" strike="noStrike">
                <a:solidFill>
                  <a:srgbClr val="ffd624"/>
                </a:solidFill>
                <a:latin typeface="Verdana"/>
              </a:rPr>
              <a:t>5, 6 and 7th May, 2014 ACP Hous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apacity4dev.eu: EC’s Knowledge Sharing Platform on Develop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420640"/>
            <a:ext cx="85075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apacity4dev.eu = CD through Knowledge Sharing!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56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romote Capacity Development as a priority of our cooper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5680"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4 pillars : </a:t>
            </a:r>
            <a:br>
              <a:rPr sz="1800"/>
            </a:br>
            <a:r>
              <a:rPr b="1" i="1" lang="en-GB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85680">
              <a:spcBef>
                <a:spcPts val="400"/>
              </a:spcBef>
              <a:spcAft>
                <a:spcPts val="601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nsolidate knowledge and build Institutional Memory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5680">
              <a:spcBef>
                <a:spcPts val="400"/>
              </a:spcBef>
              <a:spcAft>
                <a:spcPts val="601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upport Thematic Expertise, break down the silo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5680">
              <a:spcBef>
                <a:spcPts val="400"/>
              </a:spcBef>
              <a:spcAft>
                <a:spcPts val="601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upport good practice and innovation exchange / help identify specialis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5680">
              <a:spcBef>
                <a:spcPts val="400"/>
              </a:spcBef>
              <a:spcAft>
                <a:spcPts val="601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ross-learning among practitioners from EC, EEAS, MS, Donors, International Organisations, private sector, CSOs, Governments, Academia…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1187280" y="3213000"/>
            <a:ext cx="6048720" cy="28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181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1125360"/>
            <a:ext cx="6227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is offered: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7" name="Picture 6" descr="Topics   capacity4dev_testuser"/>
          <p:cNvPicPr/>
          <p:nvPr/>
        </p:nvPicPr>
        <p:blipFill>
          <a:blip r:embed="rId1"/>
          <a:srcRect l="0" t="0" r="0" b="32160"/>
          <a:stretch/>
        </p:blipFill>
        <p:spPr>
          <a:xfrm>
            <a:off x="179280" y="981000"/>
            <a:ext cx="2714760" cy="38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9"/>
          <p:cNvSpPr/>
          <p:nvPr/>
        </p:nvSpPr>
        <p:spPr>
          <a:xfrm>
            <a:off x="6300720" y="5052960"/>
            <a:ext cx="2521080" cy="16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f5494"/>
                </a:solidFill>
                <a:latin typeface="Verdana"/>
              </a:rPr>
              <a:t>Fast Fact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f5494"/>
                </a:solidFill>
                <a:latin typeface="Verdana"/>
              </a:rPr>
              <a:t>10000+ Professionals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</a:rPr>
              <a:t> from all over the world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f5494"/>
                </a:solidFill>
                <a:latin typeface="Verdana"/>
              </a:rPr>
              <a:t>2600+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</a:rPr>
              <a:t>staff</a:t>
            </a:r>
            <a:r>
              <a:rPr b="1" lang="en-GB" sz="11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</a:rPr>
              <a:t>(EC/EEAS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f5494"/>
                </a:solidFill>
                <a:latin typeface="Verdana"/>
              </a:rPr>
              <a:t>7400+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</a:rPr>
              <a:t> from Private Cos, CSOs, Government, Donors etc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100" spc="-1" strike="noStrike">
                <a:solidFill>
                  <a:srgbClr val="0f5494"/>
                </a:solidFill>
                <a:latin typeface="Verdana"/>
              </a:rPr>
              <a:t>380+ Knowledge piece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100" spc="-1" strike="noStrike">
                <a:solidFill>
                  <a:srgbClr val="0f5494"/>
                </a:solidFill>
                <a:latin typeface="Verdana"/>
              </a:rPr>
              <a:t>18800+ Posts</a:t>
            </a:r>
            <a:r>
              <a:rPr b="0" lang="fr-BE" sz="1100" spc="-1" strike="noStrike">
                <a:solidFill>
                  <a:srgbClr val="0f5494"/>
                </a:solidFill>
                <a:latin typeface="Verdana"/>
              </a:rPr>
              <a:t> in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100" spc="-1" strike="noStrike">
                <a:solidFill>
                  <a:srgbClr val="0f5494"/>
                </a:solidFill>
                <a:latin typeface="Verdana"/>
              </a:rPr>
              <a:t>300+  Group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10" descr="adevanssay   capacity4dev"/>
          <p:cNvPicPr/>
          <p:nvPr/>
        </p:nvPicPr>
        <p:blipFill>
          <a:blip r:embed="rId2"/>
          <a:srcRect l="0" t="0" r="0" b="43809"/>
          <a:stretch/>
        </p:blipFill>
        <p:spPr>
          <a:xfrm>
            <a:off x="3635280" y="5048280"/>
            <a:ext cx="2192400" cy="16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Picture 13" descr="energy group capacity4dev_testuser"/>
          <p:cNvPicPr/>
          <p:nvPr/>
        </p:nvPicPr>
        <p:blipFill>
          <a:blip r:embed="rId3"/>
          <a:srcRect l="0" t="0" r="0" b="49203"/>
          <a:stretch/>
        </p:blipFill>
        <p:spPr>
          <a:xfrm>
            <a:off x="395280" y="4456080"/>
            <a:ext cx="2735280" cy="199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AutoShape 12"/>
          <p:cNvSpPr/>
          <p:nvPr/>
        </p:nvSpPr>
        <p:spPr>
          <a:xfrm rot="505200">
            <a:off x="684360" y="3933360"/>
            <a:ext cx="1152360" cy="50508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AutoShape 14"/>
          <p:cNvSpPr/>
          <p:nvPr/>
        </p:nvSpPr>
        <p:spPr>
          <a:xfrm flipH="1" rot="10800000">
            <a:off x="2916360" y="6308280"/>
            <a:ext cx="1295280" cy="5050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117280"/>
                <a:lnTo>
                  <a:pt x="21331" y="15894"/>
                </a:lnTo>
                <a:lnTo>
                  <a:pt x="17280" y="21600"/>
                </a:lnTo>
                <a:lnTo>
                  <a:pt x="12691" y="15894"/>
                </a:lnTo>
                <a:lnTo>
                  <a:pt x="14851" y="15894"/>
                </a:lnTo>
                <a:arcTo wR="7560" hR="21600" stAng="-2282720" swAng="-2759845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3130560" y="1557360"/>
            <a:ext cx="58341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ccess to a 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arge community of development practitioners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om across the worl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ver 380 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knowledge pieces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(Voices and Views) on a great variety of themes backed with video and references updated weekl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Knowledge sharing tools for teams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: Fully fledged free Groupware for the development community: Public or Private groups with: Group site, Blog, full document library, events, survey tool, project management tool, group chat, members rooster, powerful search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Projects :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hare knowledge on projects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Your profile page, mail notifications, personal 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recommendations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ure hosting (EC Infrastructure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Join the community today!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492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As simple as … 1,2,3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1. Become a member of capacity4dev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2. Look for groups you should be joining and request membershi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3. … start learning and contributing your experience!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We are here to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help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you come on-boar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Find us on our stand on the first floor during coffee break!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capacity4dev.eu/contac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capacity4dev@ec.europa.eu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ndiaye</cp:lastModifiedBy>
  <cp:lastPrinted>2012-06-05T13:31:28Z</cp:lastPrinted>
  <dcterms:modified xsi:type="dcterms:W3CDTF">2014-05-07T08:05:08Z</dcterms:modified>
  <cp:revision>136</cp:revision>
  <dc:subject/>
  <dc:title>Slide 1</dc:title>
</cp:coreProperties>
</file>